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8E3-A7E6-4066-9835-822A036D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98F-6B67-4623-AC68-3E203FB7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0E36F-544D-466A-AA3E-90E73C8C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07FCC-26FD-42FB-886F-F5E2B5ED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D8F86-5093-4068-8DBE-6E02F3AE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DCD23-225B-4386-9572-6F68764A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FFEBF-72C0-4E96-A1FC-ACD7DA50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80AFE-A043-4A24-AF9C-E9B65031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6956B-C17D-4B1A-A41D-98D0B58A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E5880-71C2-4024-991C-0459609C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D5CD1-6332-47BC-99A0-EDF53CCB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76A21-F591-463C-87F9-91D1230B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352-699C-4F99-AC7B-165632C7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D24F2-A08C-4CA3-82C9-303C229A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4F604-87DC-48AF-A69A-5420E0ED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656C7-42F3-405F-874B-5E5756F6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46E7A-0697-4362-BED6-D7C4260C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70394-2ECB-4532-BDB2-2A7088ED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85D59-5497-4E99-888C-674E1FE8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E3574-60A3-4A61-BE7A-7A6DE8B9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88D63-068D-4D8F-BC98-98008EB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0A60B-8663-44C8-B3B6-4BF3DBD8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B2CF6-70BA-480C-8D8B-1D04EEEC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D9C-764A-48B3-9633-A405D9B4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88C91-55EB-485D-9E74-D74AE8D4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DD524-95BB-4B3C-9991-8739B6D3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09E12-37FC-4488-97F4-3E3619D3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FAE8D-A132-4D44-804D-1043FAE0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524FD-75B5-40B2-8415-1BE809FE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1EAF3-B3C5-4A2E-8738-2613DCF9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7DF41-C964-4975-8E92-CDCDA52A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B09E6-BEE4-4A1D-9E3B-DD3C3FD7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0A24F-73B5-4FC5-8416-0E54E156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372A7-EF00-4F38-929D-1C33407E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F4DA-8B82-4CA0-AC74-4AB92703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7B986-97DB-4C4C-8BC1-68EB8B82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EEFFD-D333-4A12-ADF0-34893277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1A168-21E3-4C79-8A2F-5EDD8254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7C97F-F844-40DD-9668-A3664955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7A2F4-805D-4960-9301-1BA3856D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D8927-3CF2-4405-990B-680616AF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E8E09-14B9-4A7E-853D-829E8624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56275-35DE-479D-A4E3-F275E385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ACEA7-9BD3-46A1-AE97-49AF8A52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8E38E-3707-4ED0-B34F-1B5A1194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CD2B-A2C2-4F40-A28D-8DFA5AC8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31A27-F4D7-4E36-9C7C-21F6ED1C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8DA39-E3E3-4FB2-A08E-CBA48AF6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870D5-B9B5-40B8-A34B-5DC790A0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AE7E1-3EF8-40DE-819C-7A921682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7799D-245E-4E50-B34A-A7C4D07A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C370C-AD42-48D1-8A9D-02496DA4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54497-9DFF-408B-B697-CE6772B5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41A61-A68E-4D8C-BC97-8AA6A060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09762-D455-470D-B225-592DC9D0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5AE51-3B8D-4E78-8302-B6A62BDC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99F7-1C39-4C53-BAD9-B509F405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182A2-A8D6-4A9F-9903-69B5D36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9077D-6B75-4CFB-9F18-BA10A40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330E9-CD42-4C6A-BC90-9A36C62E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DAB8D-4A0A-4859-88AB-CBE1975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04A0C-714D-4518-BEB6-E4B63E87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E3C9D-EED1-4999-A91A-23C8D74E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AE5EC-4E3F-4CC3-8B73-F953912B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B1724-1F54-4F0B-AB65-F482A400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FD50C-E9E3-4748-AE34-4DA2AADB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D737B-829C-4767-BA7A-0ACF2699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4FD5-C182-406B-9940-1DCEAE49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8E9CD-B32E-4272-8A61-CF67B6C2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B9130-24AB-486D-AD2D-AFCABC65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93337-5948-4751-B613-F1BE200A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15F26-E841-42D6-A672-F5E8EC93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C0460-1B7C-4968-8150-7F42EDF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CEED4-C640-4066-AA36-05B17ED6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31DBB-CCF2-4460-A92E-654AF1D5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176F4C-291D-45C5-ADA3-264C6443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72C1A-7FBA-4E6C-9065-92CD9DE1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6E7E9-AA93-4335-95CA-48A4B0DC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35B0-6412-43C6-8FE6-92ED4653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C4A7A-8A34-4899-B889-A405F038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CCD28-EAC4-4106-840D-CA8FA482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D49B8-94CA-4CCF-82BA-F40193CD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78C2D4-7C88-42A8-B2BF-B7A9ABBB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2DB4A-3745-4C01-9ECC-A54F5CD6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47090-7971-42FE-A245-53585D8C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BE1A2-E4D7-4386-8456-939EF4CE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D246A-1E0A-4C1C-8621-5B1D8B4B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48C9C-0EEA-4A70-B6F7-CA0AEEFD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CAAD3-3AA5-4A26-9BFE-15442C3D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F2DA-1E3F-4D07-9FEE-9FDFB581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D15AF-3C2E-4FAD-BD78-04A383FF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7CED4-EA9B-432A-9034-36FAF1AA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19DC7E-638F-4CB1-9939-E511DD4C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7793E-C32A-4364-B389-EE2C3FAE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ED928-7457-43FB-BAE8-5CF12895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7B2BF-3700-4156-8DDF-1B1EE58E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56C4F-3540-4C4E-BF93-D87A9D56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A12D5-0BF0-43FB-8C9B-06799EFF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32459-65BF-4AC6-AFFC-C4BD2AF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0E435-866B-455C-8517-B040071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CF71-D7D7-4535-A562-1B871DA3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F729E-FE42-46B7-8808-766EF4B5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60751-BFD6-4EC2-992E-DD08921A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23B42-55B2-4FE8-836C-913C1C1D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A637B-7C44-45AF-A1C1-3D56FE14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4AAE5F-9533-4C5E-B3AF-C975439C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1E1ED-1563-49F2-BFAF-391DD53E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FB19B-6DC2-4BA4-936E-250A1F65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9F779-BC12-4388-BADB-E83D2FB0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76298-6368-4987-862B-AD128541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DD003-AC57-43A3-BBC6-D29A2B67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3A1-7812-42F6-8CD2-C1E20AE9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3B8D-887D-45CA-BBEC-9C092348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C3ECC-FA71-43CA-906B-2D3CC63B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BF5D11-80B2-464D-9BEE-E60A42E0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5B96E-E636-4D80-A53D-DD3B285D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7909CF-F5E9-4A88-BACD-9FED883B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44B687-07BD-4F1A-81DE-BD3FF819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2467F4-6A07-475E-9BFB-70CAF8B7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D8968-4F84-4082-8D3B-B4B2987F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1C363-3B72-4EFD-B559-832FE94D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883BFD-5490-4523-ACE8-F2F68103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3804D5-3E97-4EC9-A8AE-342C30A3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1048-2DBF-4860-98F2-B27BCE1F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AA1FA-E5F8-484D-8225-4B00740D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611F05-1071-4995-BB10-0B1602BD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B8042-0345-4911-A1E5-6B2F0072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D521D5-EEB4-4236-894A-6C96110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CFB306-FBBB-485D-A2F5-1CB99EEC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6DE42B-3209-49A3-AB7A-00AE3DAA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E9042A-2113-4B36-9A36-20BFDEFE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B40982-FFB6-4068-A3BD-FC6A1F82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58036-D531-4FB5-BF81-2F34C7A6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4B2AF-7EF3-4E58-A282-9FDDA6B5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3B67-2CE3-4514-BBA8-4D1491A6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798632-B7CD-4948-9B76-5B168A7B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C884AC-77D0-46FA-B758-DD9306C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6C8638-D4B0-4AB8-8628-61C6504E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CAB91-8649-4DA7-895F-2ABAC8FE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D319E-745B-4686-854D-02AB555F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EC466E-B2F9-4EC2-A7B0-248808A5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C0D74-6A85-49A3-8806-50031148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9B5E2-AE20-4625-8CE4-7655FF61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55DBE-6E72-4A85-9E69-60ED8297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F56438-967D-4CD1-B30F-1614C913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2D9F-A701-45C9-9975-82C856DF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6ED24-FFFB-4203-8C1E-BDC29552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8AAC2A-B441-436B-993D-0BF82C6F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B9480-6E92-401E-B988-333DEA5A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E0BBA7-0EA2-4326-B05C-372D2AA6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511E7-F09B-4ECD-888F-77F381E0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046666-E27B-4DFA-B17F-E80B9A85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1937C-1087-4EDD-AA98-AA5663B3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9206A-5E57-43B4-A6D6-D2D36A3B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134233-BFE9-408D-8A7C-746E76D8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667BF-5C00-4D44-AA40-0B98DA23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09AE-91D6-4EBB-861C-27C19216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13087-0DD2-41BD-9296-D1C03D85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B418E-3D09-4E1A-8FD6-4AF529AA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15B52-4F62-4E77-847A-CF4C6780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7677D-E5F7-46BA-BC2B-E61EDCC1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525BD6-089C-4009-BD69-18108FF7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EB3826-04A4-4212-94A4-EF7B3BDE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C66861-EEE6-4732-BEBD-51542E0D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85828-769D-45E8-BD1E-2C9C224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9A5EA-66E1-45CD-B90D-0B4169A7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D03028-9215-4AA5-A2B4-99222D69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E3609-D28A-45D3-BA0E-7C2FA1DB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A43CE7-7924-4B13-9360-71BDB33E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AF32DB-E768-4821-BF6F-D8EBCAE7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40AA2-F848-436B-A732-67972231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3F55-DB20-4BC3-9829-3C3167C4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D31F-D088-4288-B53E-198B03E7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908BA-4616-4A65-9B67-4A48E0E8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8F6DE-C553-45E7-92CD-37C72CAE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23C-CB2E-4675-8584-A5AAE7A4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91C72-B2D3-49E1-B341-1B14185A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83E8-4D1D-47CB-939F-FCEAB026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360F7-D597-4A6C-AED5-75AFAC3C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E86F-0853-4985-83F7-D2720621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7AF0D-508E-48F5-AE41-773B0E84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DF41-B228-4E5E-BF20-97030A20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8CBA-40BF-4DED-8B10-6093FA35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138B-005C-4A34-BD6E-009E4A6B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25C93-F869-4420-A3AC-C5D824DF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6CDAF-9F5D-4618-9CEB-247F5668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B33-0865-48D6-AC79-A83F440F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B6B3-E620-4CCD-8DB6-0AE77245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8BA78-8EB0-4C6A-918D-D01BC48A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EA2A-BB6B-4202-9671-0D803C4B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158D-9135-4F93-B436-081F676F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5AF8-5709-4E0A-98EA-01BF04E9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4A5B-FEDF-43CC-AF4B-78ABEE39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9C21-34BD-48C7-8DA5-E8B18F63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9DB9E-16D2-4D2A-ABD1-9661F3BE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1D47-4D7E-4568-A5D4-B562D016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C4C3D-AB05-408E-A296-6F64396A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26C-72E6-4B46-9CB1-49D734BB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1D9EF-69D2-47C5-8C9E-DC289BB3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9B69-A428-41A0-BEE6-43DEAF11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5B6C3-BA1D-412E-9D55-F3464EE9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D61DD-10FE-4788-A536-22CCD15A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32DF-4CB4-4855-88A9-AF037970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25FD4-C969-4859-BEE2-B1D35934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37BAD-282D-49D1-989F-367F5130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998D0-1BC6-4EEC-8DF7-2D4DDDEF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8CE7-BE70-4AB4-B9C3-381D82B3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9F148-3D45-44E9-81AE-9A1AE78D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0DF-E878-4C41-8D95-2369FD1D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181A9-DBC6-4E2E-84D5-9D1FF84D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4764F-A105-4C60-92FE-DC5B15E0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EE84-89DA-42DB-89A4-F94D28D0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F1DAD-1234-40EB-947A-F6516CDC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F4220-C8B0-4C49-A525-A8CF2BAB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02E25-3FA1-4C60-81BA-6B2FD88F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B3E94-867D-48C6-8644-326CB4C1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8107D-BAE0-41BB-BAF8-E95E362C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DB285-132B-4442-BD41-1AB56A54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E3897-9FAA-48F1-8B35-A47EA81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723-5E9B-4579-A257-7EFFF830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6944F-D4A2-4E1E-AE43-F3FA8613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11FE0-D2AB-417E-9A63-49965BF0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0309C-7153-45FB-B1DE-8DFC97A4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55895-AA98-476C-832B-C0F66C4D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5AB64-3131-40E2-8BE4-2476B2A3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BC33A-B84B-450E-B45D-82254669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87F89-1E58-416B-A56E-423A3E69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2DBE9-1B70-4C33-A6D4-044C5C04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D6773-DFA7-40F0-B9B1-5318FC66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1A78F-8661-46C6-B9A2-D0F93447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372-389B-448F-9DBF-9DC29852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CBFB5-836F-4A16-885A-7F9CA4E6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975E0-CAE1-49BC-8B0A-7C1CB6A7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6E4A7-D8DE-46FF-A9BD-C09B6C95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3ED83-158D-4810-95F0-0393D4B4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57D7-DB44-49FB-81A7-9AEEB8BE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75D7B-27F4-447E-873D-E75D480C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16E51-3A4B-4115-9DDC-D3F982D2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0D02C-EF77-4C65-BD8C-806DE320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0190E-9470-41B6-A434-92C71165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512D9-07C2-43E6-83DF-41F88CF3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79C-2E4A-455C-9665-B484769C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C988E-593F-4598-875F-B72C53BF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6F5C6-5926-4C0E-8339-3B09FEDE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75AFE-7FF0-4FC6-82B4-535C21A1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918A6-3DB0-4B2C-BC41-009A2361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A7680-2CDA-4663-B59C-2CEA6681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76B54-04C9-42DF-A10E-B661A8DC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883CF-4EAC-49A1-B472-9EE11437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AC65E-F745-455F-AF14-6F2FFABE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F4188-E727-4A8D-8CBC-777F2D11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DFB15-91BF-4E11-83C6-30D92D2A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5D6F-62AD-4C86-8FDF-17367D55B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B524-EC75-4D26-9C07-886FC29E22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638D-A031-4191-A4A0-12EB166DD0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8C79-2BD6-420F-BDDF-4619B6347B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6389-D5DB-48B9-9D59-26DAB80A9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E7DF-2DF7-4262-ADF7-308C1DEA90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00E7-82EE-4E32-BFD8-B2ECDA714C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6F59-8ED9-41E6-B57C-2124CF30CE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C646-D1FC-4BFB-BD9A-8DF0868980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D678-4746-4D01-A6BE-7EC7CCDD81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92DC-B4D2-44AE-9F86-694126EDE1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8C3D-8E37-4FB7-8476-FDB87BEF68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0208-7CE5-4C46-B084-A6C653EE29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BC0D-5F00-4108-AE56-792795525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1366-6752-455A-9B19-ED6B1B442F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03E2-F82D-4425-BACA-2678287519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1752-236B-4FDC-A8A5-7AE0057A85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E8FB-5186-4F72-B2D9-A499286A4B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33DC-70F7-4793-A767-56ABAF7CE8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3BA7-FA94-469A-8507-9B1F965506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9F6F-7970-440C-8DEA-E65AC3B27B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81E6-6FE7-4EFB-93D1-C8907B450D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4566-0D66-471F-96B1-76CF8C2D30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AE3B-6A51-4F2F-B82F-D04DE9BF66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D700-C78B-46D5-AC72-A472EBBE04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9152-60E8-4693-8E64-94CEA79F6F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131B-F5EB-441D-897E-8D0D67CD4A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A7EC-653A-4075-8227-0E944FBE0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EAFE-5473-4DF9-A626-E54A0AE9F3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8624-43C0-44E8-B8A1-4F86F352C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AC7A-91E1-4C70-917F-DD9E089DD4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EA3D-B344-4970-8A48-BE078D8F1B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8E1D-626D-444A-A861-000B855E97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113A-C80B-404B-A825-646C12B860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A787-FE6F-41D4-9D66-4C6AF769A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D470-A01C-4B97-9A1F-6BF37F7818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AFEA-B4FB-4F05-B61E-80999F17A4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D299-14BF-40A4-AEF7-6260241214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FF0C-2323-4864-A007-4B5A8DB436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6646-70F0-4B00-A9A8-12783AB32C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957320" y="3048120"/>
            <a:ext cx="52293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633240" y="2838600"/>
            <a:ext cx="7875720" cy="11808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6227640" y="36590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298764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33200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7885080" y="37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572000" y="365904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738360" y="2243160"/>
            <a:ext cx="7665840" cy="23716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4176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417680" y="305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403280" y="3486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476360" y="38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1476360" y="42782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476280" y="2395440"/>
            <a:ext cx="8191440" cy="2067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619280" y="41054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3708360" y="4121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5724360" y="4121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7740720" y="40910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652320" y="2233440"/>
            <a:ext cx="7837560" cy="2391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4032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1332000" y="3054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1332000" y="3443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1332000" y="3817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1332000" y="42354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5:02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